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207B-C1E4-442F-9B21-0463218339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6" name="Google Shape;103;p2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924E-0162-4472-813F-7388E3663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9" name="Google Shape;116;p4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346F-B912-453F-8C8A-5D8961708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9840-3385-4904-BA6B-D02D5338CF2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E387-C359-4DFF-9FB0-CB0D390282F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6B57-BBC9-45BF-96BC-98351B494E3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B746-D5A8-4304-8970-1B1F85A58C1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919F-DD07-4934-AF6C-AB711067A63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0EBE-D6AA-46DA-8D1A-F079A331D04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C0E3-0D27-4FAC-899A-5835C16B50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4A2D-9216-4611-AD24-1DDFF41866F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4DC0-C181-438E-B382-2DDA752D890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7E4D-886E-40BB-B593-B521A3C23A3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ED70-00F1-4BE2-861C-EDDADF9E3E6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2571-E9D8-48B4-9E4E-F7B0B5440C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590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"/>
          </p:nvPr>
        </p:nvSpPr>
        <p:spPr>
          <a:xfrm>
            <a:off x="11471400" y="6554520"/>
            <a:ext cx="6429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7e6e6"/>
                </a:solidFill>
                <a:latin typeface="Calibri"/>
                <a:ea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7603-76CA-4183-AAC4-B4B94CD96999}" type="slidenum">
              <a:rPr b="0" lang="en-US" sz="1100" spc="-1" strike="noStrike">
                <a:solidFill>
                  <a:srgbClr val="e7e6e6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71388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fusion Medicine Upd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Presenter, Credentials, Department / 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38080" y="1825560"/>
          <a:ext cx="10501560" cy="4132440"/>
        </p:xfrm>
        <a:graphic>
          <a:graphicData uri="http://schemas.openxmlformats.org/drawingml/2006/table">
            <a:tbl>
              <a:tblPr/>
              <a:tblGrid>
                <a:gridCol w="3025800"/>
                <a:gridCol w="827280"/>
                <a:gridCol w="882720"/>
                <a:gridCol w="892080"/>
                <a:gridCol w="772920"/>
                <a:gridCol w="925560"/>
                <a:gridCol w="925560"/>
                <a:gridCol w="804960"/>
                <a:gridCol w="718920"/>
                <a:gridCol w="725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&amp; Blood Transf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mens Labeled Incorrec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s Taking &gt; 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TX Reaction Not Verified by 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Re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Volume Docu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Labeling issue – event report written and all specimens re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Transfusions &gt; 4 hrs – Total event reports due to incomplete transfusion documentation in Epic and not actual transfusion time. Transfusionist edits the time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Volume problems – event reports written. CRN or nurse manager follows up with staff to edit transcription errors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Upon hire of the TSO, increase the number of transfusions reviewed for appropriateness and reactions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Communicate statistics and goals to educate nursing &amp; physic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Pro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for each project that the team is actively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Google Shape;118;p1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33308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j</dc:creator>
  <dc:description/>
  <dc:language>en-US</dc:language>
  <cp:lastModifiedBy>app</cp:lastModifiedBy>
  <dcterms:modified xsi:type="dcterms:W3CDTF">2023-09-22T20:40:14Z</dcterms:modified>
  <cp:revision>3</cp:revision>
  <dc:subject/>
  <dc:title>Transfusion Medicine Update</dc:title>
</cp:coreProperties>
</file>